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CC537-7E7E-4724-8F3F-B64C7F60C83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7DA-C117-429F-84AC-EBC319FF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6BB-1FF7-494F-B242-B156F37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052-B6D1-4FE0-A6EA-7993A3C8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412-1870-4E13-8304-0163D137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E4AE-683D-4D61-960B-AA951073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219F7-AD6F-4C81-9C12-EB966FE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38BB-C5CD-4A32-BB97-FB5AC76C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73F3-9B07-4DE5-A8B8-EFA276B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793C-3967-4090-8D08-C2E107A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19AD-F8E2-4E5C-A87B-F66E8F6B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C7E15-C952-4C46-845F-0385120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A58-D572-453D-A283-BED167B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9806-3956-4397-BED5-F710858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A4F7-1E3B-499B-9C1D-16FA152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ECDC6-29EE-4BBE-BF0C-59036F5F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6DEE-234D-4A7B-B651-D9A4EC94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8C3D7-4213-4C56-ACBF-3019EB4A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1A9-551E-4956-81EF-8B7A73E8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39B-DEFC-4BA8-8ACF-85ADAB4C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CA5-CBE3-4AAE-BB1D-772E921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790-C61D-4A65-A1FC-E6C47130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A6E-EF03-4E25-9FD8-745AD7C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264-867B-4309-9F7A-7FB8E47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875-093C-4FA9-A4E6-8488A7C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FC57-C79B-48C5-88BC-5169B1F869FD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10840"/>
            <a:ext cx="8526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2182680"/>
            <a:ext cx="8526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888240"/>
            <a:ext cx="210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755280" y="6887880"/>
            <a:ext cx="8526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ff006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imes New Roman"/>
                <a:ea typeface="Lucida Sans Unicode"/>
              </a:rPr>
              <a:t>ver.di/Bereich Wirtschaftspoli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6887880"/>
            <a:ext cx="2057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C5D026-4F6D-40BB-B9AA-3BCDAC0715F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130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ttac.de/ttip-stoppen" TargetMode="External"/><Relationship Id="rId2" Type="http://schemas.openxmlformats.org/officeDocument/2006/relationships/hyperlink" Target="http://www.ttip-unfairhandelbar.de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. Die große Legende: Krise ist vorbei – dank der Austeritätspolitik der EU und der Tr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I. Der Kern der Krise: Die Verwertung des gesellschaftlichen Gesamtkapitals missl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II. Der Freihandel ist ein Instrument zur zeitlichen Eindämmung und räumlichen Verlagerung der 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V. Mobilisierung gegen Austeritätspolitik und Freih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Privatvermögen – wohin dam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0720" y="1618920"/>
            <a:ext cx="9899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r wollen in Europa einen „dauerhaft angeleg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g, dessen Leitpl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trukturreformen für mehr Wettbewerbsfäh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 der einen Seite 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onsolidierung der Staatsfina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 der andern Seite sin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Angela Merkel, 24.1.2013, Da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I. Der Kern der Krise: Die Verwertung des gesellschaftlichen Gesamtkapitals misslin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6800" y="539640"/>
            <a:ext cx="9180360" cy="648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5080" y="5648400"/>
            <a:ext cx="4856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99964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Finanzansprüche: Umvertei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k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Arbeits)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mö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vatisierung öffentliche Infra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vatisierung soziale Dasein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ulden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eih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68440" y="208080"/>
          <a:ext cx="5870520" cy="58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208080"/>
                    <a:ext cx="587052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468440" y="6046920"/>
          <a:ext cx="587376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6046920"/>
                    <a:ext cx="58737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II. Der Freihandel ist ein Instrument zur zeitlichen Eindämmung und räumlichen Verlagerung der 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Freihandel: Entwick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ATT (1948) als reines Freihandelsabk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begünst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länder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ruguayrunde führt zur WTO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eitschlichtungsmechan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ebaute Tages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eit um weitere Liberal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rarab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ffentliche Beschaf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vestitionssch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Freihandel: (Miss)erfol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74400" indent="-282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ltur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0" indent="-282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99 Se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50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änder nutzen ihre Vetopositio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400" indent="-282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amtamerikanische Freihandelszone F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6080" indent="-500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 südamerikanische Länder weigern s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5720" indent="-58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50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viele Baustellen = Widersprü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5720" indent="-58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1 Doharu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rar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. Die große Legende: Krise ist vorbei – dank der Austeritätspolitik der EU und der Tr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Freihandel: Ausweichstrateg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amtamerikanische Freihandelszone FTA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scheit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A und E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laterale Handelsabkommen BI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twa 3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tschaftliche Partnerschaftsabkommen EPA mit den ehemaligen Kolon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it fast allen unterzeichnet, nur mit Karibik in K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ransatlantic Trade and Investment Partnership – TTI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mfasst fast alle aktuellen Strategien, ökonomische Dominanz im Handel wirksam werden zu 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bewusst darauf angelegt, Regeln über den eigenen Gültigkeitsbereich hinaus zu etab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ll im Gültigkeitsbereich Regeln so weitgehend wie möglich angleich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„Güter, Dienstleistungen und Investition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d weitgehend unter Ausschluss der Öffentlichkeit verhand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: Kernele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eitigung von Zöllen und Kontingen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relativ unbedeutend, außer für einige Sekto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sere Vereinbarkeit von Regulierungen und Standard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bisher völlig unterschiedliche Regulierungs-, Rechts- und Schutzphilosophien legen Angleichung nach unten durch gegenseitige Anerkennung na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bau nichttarifärer Handelshemmniss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azu kann alles zählen, was Profite beeinträchti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arbeitu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geln und Grundsätzen zur Behandlung globaler Angelegenhei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richtet sich gegen die Schwellenlä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: Regulations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87000" indent="-291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t aus höchsten Handelsverantwortlichen der Kommission und der US-Reg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itt mindestens zweimal jährlich zusammen und beschließt jährliches Arbeitsprogra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et mit EU- und US-Parlament, Gewerkschaften und „stakeholders“ zusammen, „including business,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000" indent="-291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Absprachen mit den Konzernen sollen institutionalisiert werden und schon bei der Erarbeitung von Vorschlägen greifen, also vor eventuellen parlamentarischen 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: Demokratiefeind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geht nur um Investitionen, nicht um konkrete Versorg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nvestor-Staat-Streitschlichtungsmechanismen (IS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Privatisierung des Re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Privatisierung der staatlichen Steuerein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Aushöhlung des Öffentlichkeitspri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Widerstand wird von vorne herein als rechtswidrig kriminalis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: Hauptkritikpun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ringerung von Schutznive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nehmerre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aucherschutz (Gentechn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weltschutz (chemische Giftstoffe, Fra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anzmarktregul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zialabbau durch Privat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obale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n Schwellenländer (China) oder mit (TPP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ung des (absteigenden) Dollars gegen den E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: schmuddelige Bündnis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AfD, FPÖ, Front Nationale, U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utsche Wirtschaftsnachri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Ausplünderung Europa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Gefährdung der nationalen Souveränitä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ie „Völker Europas“ werden zum Spielball „der unkontrollierbaren Finanzeli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Gehirnwäsche“ durch „EU-Bürokraten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(Kreidfe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koloniale, imperialistische Übernahme“ der EU durch die US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(Wertew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V. Mobilisierung gegen Austeritätspolitik und Freih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Die Eurokris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und das Handelsabkommen 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V. Mobilisierung gegen Austeritätspolitik und Freih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T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3. März 2014 Brüssel: Gemeinsame Aktionen gegen die 3. TTIP-Verhandlungsrunde von Blockupy- und TTIP-Aktivist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line Unterschriftenaktion 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ttac.de/ttip-stopp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 2014: Kul.tour stoppt T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ündnis 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tip-unfairhandelbar.de/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risenabfol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7 Hypotheken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8 Banken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09 Krise der materiellen Produk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10 Krise der Sta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land, Ungarn, Lita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iech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ürzungspa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11 Eurok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7360" indent="-6573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736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014 Währungskrise Schwellenlä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locku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5. - 25. Mai 2014 Europaweite Aktion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7. Mai Blockupyaktion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üssel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rbst 2014 Eröffnung des EZB-Neubaus in Frankfurt findet nicht ungestört st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7892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U-Krisenmaßna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bilitäts- und Wachstumspakt (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de 90er-Jahr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 zur Garantie von Maast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FSF und ESM (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i 20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uro-Plus-Pakt (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ärz 20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: Selbstverpfl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chserpaket“ (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mmer 20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: Zielvorgaben für Haushalte und Staatsausgaben; Sanktionen; umgekehrte Meh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iskalpakt (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zember 20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): „Schuldenbrems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6800" indent="-303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kte für Wettbewerbsfähigkeit (2012/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KS-Vertrag (Fiskalpakt)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s schon im Grundgeset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GG Schuldenbrems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0,35% Defizit Bund, 0% Lä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KS-Vertra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0,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GG Schuldenbrems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Bund ab 2016, Länder 20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KS-Vertra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ab 1.1.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GG Schuldenbrems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nur Bund und Lä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KS-Vertra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gesamtstaatliches Defizit, d.h. incl.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           Kommunen und Sozialversicher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GG Schuldenbrems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Etatbeschlüsse der Parla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KS-Vertra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Automatischer Korrekturmechan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KS-Vertrag (Fiskalpakt)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samtverschul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aastricht: Gesamtstaatliche Verschuldung nicht über 6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skalpakt: Abbau des Anteils von über 60% um jährlich 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aushaltsstruktur wird der Kommission vorgelegt, ehe der Etat ins nationale Parlament ge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mmission entscheidet, ob die Verpflichtung eingehalten wur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KS-Vertrag (Fiskalpakt)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e der K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kt „vorzugsweise verfassungsrechtlich“ in nationales Recht um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mmission stellt Defizit fest: halbautomatisches Defizitverfah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wei Abstimmungen, in Euroland und in E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urostaaten stimmen mit umgekehrter Mehrheit (so im ESM-Vertrag geregelt) 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120" indent="-306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1120"/>
                <a:tab algn="l" pos="515880"/>
                <a:tab algn="l" pos="965160"/>
                <a:tab algn="l" pos="1414440"/>
                <a:tab algn="l" pos="1863720"/>
                <a:tab algn="l" pos="2313000"/>
                <a:tab algn="l" pos="2762280"/>
                <a:tab algn="l" pos="3211560"/>
                <a:tab algn="l" pos="3660840"/>
                <a:tab algn="l" pos="4110120"/>
                <a:tab algn="l" pos="4559400"/>
                <a:tab algn="l" pos="5008680"/>
                <a:tab algn="l" pos="5457960"/>
                <a:tab algn="l" pos="5907240"/>
                <a:tab algn="l" pos="6356520"/>
                <a:tab algn="l" pos="6805440"/>
                <a:tab algn="l" pos="7254720"/>
                <a:tab algn="l" pos="7704000"/>
                <a:tab algn="l" pos="8153280"/>
                <a:tab algn="l" pos="8602560"/>
                <a:tab algn="l" pos="905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 der folgenden Abstimmung in der EU stimmen die  Eurostaaten zu (so im Fiskalpakt festgeleg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6120" y="96840"/>
            <a:ext cx="98028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derstand gegen das Krisenregi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557360"/>
            <a:ext cx="9072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Wir kommen wieder nach Frankfur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1" lang="de-DE" sz="2600" spc="-1" strike="noStrike">
                <a:solidFill>
                  <a:srgbClr val="c00000"/>
                </a:solidFill>
                <a:latin typeface="Arial"/>
              </a:rPr>
              <a:t>31. Mai und 1. Juni 2013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ollen wir den </a:t>
            </a:r>
            <a:r>
              <a:rPr b="1" lang="de-DE" sz="2600" spc="-1" strike="noStrike">
                <a:solidFill>
                  <a:srgbClr val="00b050"/>
                </a:solidFill>
                <a:latin typeface="Arial"/>
              </a:rPr>
              <a:t>Widerstand gegen die Verarmungspolitik von Regierung und Troika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ach Frankfurt tra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arum Frankfur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roika: IWF, EU-Kommission und </a:t>
            </a: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EZB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in Frankfu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tz der Europäischen Zentralbank (EZB) und vieler deutscher Banken und Konzerne – den Profiteuren dieser Polit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9:22:15Z</dcterms:created>
  <dc:creator>werner rätz</dc:creator>
  <dc:description/>
  <dc:language>en-US</dc:language>
  <cp:lastModifiedBy/>
  <cp:revision>1</cp:revision>
  <dc:subject/>
  <dc:title/>
</cp:coreProperties>
</file>